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2631-05BA-41DD-8327-99C4B5FCB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6F4A0-6BF5-48F9-8E15-DEEFAD03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E8D5-6389-4577-8F62-B9A1BD73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C94CB-AAFA-434A-9D21-7FCF9E493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4BE8-4289-43B6-93FE-023E180C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E2B7-F859-46E9-8DA0-A4CC4A89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4B39-AD18-49E0-9D31-73CB3527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D708-CABB-45F0-9C76-AFFBD30A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1898-3CF2-4BEB-B94D-E7E58A40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7686-2BD7-460B-BE18-E7193602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8514-74F2-407F-8217-C42D4F2A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AB7FA-9B48-468E-AEE4-36D60CBA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CCE8-B519-4FC6-93C7-B1D71F7E5D4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25520" y="6524640"/>
            <a:ext cx="8353440" cy="360"/>
            <a:chOff x="425520" y="6524640"/>
            <a:chExt cx="8353440" cy="360"/>
          </a:xfrm>
        </p:grpSpPr>
        <p:sp>
          <p:nvSpPr>
            <p:cNvPr id="7" name="Line 8"/>
            <p:cNvSpPr/>
            <p:nvPr/>
          </p:nvSpPr>
          <p:spPr>
            <a:xfrm>
              <a:off x="425520" y="6524640"/>
              <a:ext cx="8353440" cy="0"/>
            </a:xfrm>
            <a:prstGeom prst="line">
              <a:avLst/>
            </a:prstGeom>
            <a:ln w="9360">
              <a:solidFill>
                <a:srgbClr val="046c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25520" y="6524640"/>
              <a:ext cx="835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0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1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5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6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8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1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2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7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心境障碍患者的护理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制作人  罗晓清</a:t>
            </a:r>
            <a:endParaRPr b="1" lang="en-US" sz="32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思维奔逸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隶书"/>
              </a:rPr>
              <a:t>又称观念飘忽，联想加快，概念一个接一个涌现。表现语流变快，语量增多，滔滔不绝，有时可出现言语中断或不连贯，常伴随境转移，并出现音联，意联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意志行为增强，多为协调性精神运动型兴奋，即内心体验、行为方式与外界环境相协调。患者自觉精力旺盛、爱管闲事，行为轻率，可伴有夸大妄想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伴随症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需要减少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食欲增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体重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性欲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：可出现自主神经功能紊乱的各种表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6386"/>
          <p:cNvGrpSpPr/>
          <p:nvPr/>
        </p:nvGrpSpPr>
        <p:grpSpPr>
          <a:xfrm>
            <a:off x="304920" y="1371600"/>
            <a:ext cx="8610120" cy="4875480"/>
            <a:chOff x="304920" y="1371600"/>
            <a:chExt cx="8610120" cy="4875480"/>
          </a:xfrm>
        </p:grpSpPr>
        <p:sp>
          <p:nvSpPr>
            <p:cNvPr id="152" name="矩形 16387"/>
            <p:cNvSpPr/>
            <p:nvPr/>
          </p:nvSpPr>
          <p:spPr>
            <a:xfrm>
              <a:off x="304920" y="137160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圆角矩形 16388"/>
            <p:cNvSpPr/>
            <p:nvPr/>
          </p:nvSpPr>
          <p:spPr>
            <a:xfrm>
              <a:off x="3318120" y="137160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低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圆角矩形 16389"/>
            <p:cNvSpPr/>
            <p:nvPr/>
          </p:nvSpPr>
          <p:spPr>
            <a:xfrm>
              <a:off x="3049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情绪低落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5" name="肘形连接符 16390"/>
            <p:cNvCxnSpPr>
              <a:stCxn id="154" idx="0"/>
              <a:endCxn id="153" idx="2"/>
            </p:cNvCxnSpPr>
            <p:nvPr/>
          </p:nvCxnSpPr>
          <p:spPr>
            <a:xfrm flipV="1">
              <a:off x="15962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6" name="圆角矩形 16391"/>
            <p:cNvSpPr/>
            <p:nvPr/>
          </p:nvSpPr>
          <p:spPr>
            <a:xfrm>
              <a:off x="331812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兴趣缺乏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7" name="肘形连接符 16392"/>
            <p:cNvCxnSpPr>
              <a:stCxn id="156" idx="0"/>
              <a:endCxn id="153" idx="2"/>
            </p:cNvCxnSpPr>
            <p:nvPr/>
          </p:nvCxnSpPr>
          <p:spPr>
            <a:xfrm flipV="1">
              <a:off x="4597200" y="332748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58" name="圆角矩形 16393"/>
            <p:cNvSpPr/>
            <p:nvPr/>
          </p:nvSpPr>
          <p:spPr>
            <a:xfrm>
              <a:off x="6331680" y="429696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乐趣丧失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59" name="肘形连接符 16394"/>
            <p:cNvCxnSpPr>
              <a:stCxn id="158" idx="0"/>
              <a:endCxn id="153" idx="2"/>
            </p:cNvCxnSpPr>
            <p:nvPr/>
          </p:nvCxnSpPr>
          <p:spPr>
            <a:xfrm flipH="1" flipV="1">
              <a:off x="4609440" y="332136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心理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抑郁发作包含许多心理学症状，如焦虑，注意力及记忆力下降，认知扭曲，自罪自责，幻觉和妄想，自杀观念和行为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二）抑郁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躯体症候群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主要表现为食欲下降、睡眠障碍、体重减轻、性欲减退、周身不适、便秘、心慌气短、尿频等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三）双相情感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双相障碍的临床特点是反复出现心境和活动水平明显紊乱的发作，有时表现为心境高涨、精力充沛和活动增加（躁狂），有时表现为心境低落、精力减退和活动减少（抑郁）。发作间期通常以完全缓解为特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亚型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混合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四）持续心境障碍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中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重度抑郁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轻躁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环性心境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恶劣心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一节  心境障碍的临床特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一 躁狂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碳酸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惊厥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抗精神病性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五、治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 抑郁发作的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治疗：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SSRIs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三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四环类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他新型抗抑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电休克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治疗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预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躁狂发作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抑郁发作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双相情感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第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节  心境障碍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患者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的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生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躯体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既往健康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实验室检查及其他辅助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心理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认知活动：感知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思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情感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意志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一、护理评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三）社会文化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、沟通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近期负性生活事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四）精神状况评估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精神检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量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一）抑郁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自杀（自伤）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便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状态的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隔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自理能力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健康维持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活动无耐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绝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无能为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二、护理诊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（二）躁狂发作护理诊断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暴力行为（针对自己或他人）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营养改变：低于机体需要量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有受伤的危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社交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思维过程改变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个人应对无效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、自理缺陷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相关的基本概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绪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emotion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：人对客观事物的态度或因之产生的内心体验。心理学上有广义、狭义之说。广义情绪包括情感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情感（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</a:rPr>
              <a:t>affect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高级的、社会性的、与行为的社会评价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狭义情绪：低级的、生物性，与满足欲望直接相关的体验。</a:t>
            </a:r>
            <a:endParaRPr b="1" lang="en-US" sz="20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常见情绪状态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mood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一段时间内持久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激情（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enthusiasm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）：短暂、强烈的情绪状态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护理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目标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四、护理措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一）抑郁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二）躁狂症的护理措施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治疗性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药物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排泄及个人卫生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参加体育锻炼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重视患者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帮助患者提高自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建立正性认知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协助患者做出决定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一）抑郁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患者参加集体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共同参与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自杀的防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生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提供安全的环境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保证药物治疗顺利进行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睡眠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个人卫生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合理安排患者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心理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建立良好的护患关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过度不当行为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对于“慷慨”的处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满足合理要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（二）躁狂症的护理措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社会方面的护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避免患者出现不恰当的性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止患者挑拨滋事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预防及处理暴力行为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鼓励家属的参与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、护理评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症状消失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自知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一般情况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患者的社交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家属对疾病相关知识的掌握情况以及提供有效照护的能力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六、健康教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对疾病的认识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药物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复诊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康复活动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、注意事项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与情感性精神障碍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正常的情感活动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活动每时每刻都在波动但幅度不大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症状（症状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波动的幅度很大且持续一段时间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情感性精神障碍（疾病学诊断）</a:t>
            </a:r>
            <a:endParaRPr b="1" lang="en-US" sz="2400" spc="-1" strike="noStrike">
              <a:solidFill>
                <a:srgbClr val="8ac8de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情感症状影响到本人或周围人的生活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14" name="下箭头 7171"/>
          <p:cNvSpPr/>
          <p:nvPr/>
        </p:nvSpPr>
        <p:spPr>
          <a:xfrm>
            <a:off x="4572000" y="3357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下箭头 7172"/>
          <p:cNvSpPr/>
          <p:nvPr/>
        </p:nvSpPr>
        <p:spPr>
          <a:xfrm>
            <a:off x="4645080" y="472428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214" name="矩形 44035"/>
          <p:cNvSpPr txBox="1"/>
          <p:nvPr/>
        </p:nvSpPr>
        <p:spPr>
          <a:xfrm rot="5400000">
            <a:off x="1482840" y="2772000"/>
            <a:ext cx="1512720" cy="52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5" name="矩形 44036"/>
          <p:cNvSpPr txBox="1"/>
          <p:nvPr/>
        </p:nvSpPr>
        <p:spPr>
          <a:xfrm rot="5400000">
            <a:off x="2094840" y="4103640"/>
            <a:ext cx="2881080" cy="52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大家！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境障碍又称情感性精神障碍，是指各种原因引起的，以显著而持久的心境或情感改变为主要特征的一组疾病。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主要表现为情感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少数伴有精神病性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反复发作，残留症状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二、病因及发病机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遗传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神经生化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-14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心理社会因素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  <p:sp>
        <p:nvSpPr>
          <p:cNvPr id="122" name="文本框 10243"/>
          <p:cNvSpPr/>
          <p:nvPr/>
        </p:nvSpPr>
        <p:spPr>
          <a:xfrm>
            <a:off x="971640" y="2133720"/>
            <a:ext cx="2595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文本框 10244"/>
          <p:cNvSpPr/>
          <p:nvPr/>
        </p:nvSpPr>
        <p:spPr>
          <a:xfrm>
            <a:off x="1332000" y="1773360"/>
            <a:ext cx="212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弧边矩形 203"/>
          <p:cNvSpPr/>
          <p:nvPr/>
        </p:nvSpPr>
        <p:spPr>
          <a:xfrm>
            <a:off x="1044720" y="170172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弧边矩形 203"/>
          <p:cNvSpPr/>
          <p:nvPr/>
        </p:nvSpPr>
        <p:spPr>
          <a:xfrm>
            <a:off x="1044720" y="2852640"/>
            <a:ext cx="3743280" cy="6494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弧边矩形 203"/>
          <p:cNvSpPr/>
          <p:nvPr/>
        </p:nvSpPr>
        <p:spPr>
          <a:xfrm>
            <a:off x="1044720" y="4005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弧边矩形 203"/>
          <p:cNvSpPr/>
          <p:nvPr/>
        </p:nvSpPr>
        <p:spPr>
          <a:xfrm>
            <a:off x="1044720" y="5229360"/>
            <a:ext cx="3743280" cy="647640"/>
          </a:xfrm>
          <a:custGeom>
            <a:avLst/>
            <a:gdLst/>
            <a:ahLst/>
            <a:rect l="l" t="t" r="r" b="b"/>
            <a:pathLst>
              <a:path w="432472" h="216024">
                <a:moveTo>
                  <a:pt x="33069" y="0"/>
                </a:moveTo>
                <a:lnTo>
                  <a:pt x="399403" y="0"/>
                </a:lnTo>
                <a:lnTo>
                  <a:pt x="415479" y="23844"/>
                </a:lnTo>
                <a:cubicBezTo>
                  <a:pt x="426421" y="49714"/>
                  <a:pt x="432472" y="78157"/>
                  <a:pt x="432472" y="108013"/>
                </a:cubicBezTo>
                <a:cubicBezTo>
                  <a:pt x="432472" y="137869"/>
                  <a:pt x="426421" y="166312"/>
                  <a:pt x="415479" y="192182"/>
                </a:cubicBezTo>
                <a:lnTo>
                  <a:pt x="399405" y="216024"/>
                </a:lnTo>
                <a:lnTo>
                  <a:pt x="33068" y="216024"/>
                </a:lnTo>
                <a:lnTo>
                  <a:pt x="16993" y="192182"/>
                </a:lnTo>
                <a:cubicBezTo>
                  <a:pt x="6051" y="166312"/>
                  <a:pt x="0" y="137869"/>
                  <a:pt x="0" y="108013"/>
                </a:cubicBezTo>
                <a:cubicBezTo>
                  <a:pt x="0" y="78157"/>
                  <a:pt x="6051" y="49714"/>
                  <a:pt x="16993" y="23844"/>
                </a:cubicBezTo>
                <a:lnTo>
                  <a:pt x="3306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0249"/>
          <p:cNvSpPr/>
          <p:nvPr/>
        </p:nvSpPr>
        <p:spPr>
          <a:xfrm>
            <a:off x="1363680" y="185724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躁狂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文本框 10250"/>
          <p:cNvSpPr/>
          <p:nvPr/>
        </p:nvSpPr>
        <p:spPr>
          <a:xfrm>
            <a:off x="1260360" y="29224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抑郁发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10251"/>
          <p:cNvSpPr/>
          <p:nvPr/>
        </p:nvSpPr>
        <p:spPr>
          <a:xfrm>
            <a:off x="1332000" y="4076640"/>
            <a:ext cx="28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双相情感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文本框 10252"/>
          <p:cNvSpPr/>
          <p:nvPr/>
        </p:nvSpPr>
        <p:spPr>
          <a:xfrm>
            <a:off x="1332000" y="53020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持续性心境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一）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躁狂发作临床表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11266"/>
          <p:cNvGrpSpPr/>
          <p:nvPr/>
        </p:nvGrpSpPr>
        <p:grpSpPr>
          <a:xfrm>
            <a:off x="250920" y="1484280"/>
            <a:ext cx="8610120" cy="4875480"/>
            <a:chOff x="250920" y="1484280"/>
            <a:chExt cx="8610120" cy="4875480"/>
          </a:xfrm>
        </p:grpSpPr>
        <p:sp>
          <p:nvSpPr>
            <p:cNvPr id="134" name="矩形 11267"/>
            <p:cNvSpPr/>
            <p:nvPr/>
          </p:nvSpPr>
          <p:spPr>
            <a:xfrm>
              <a:off x="250920" y="1484280"/>
              <a:ext cx="8610120" cy="487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5" name="圆角矩形 11268"/>
            <p:cNvSpPr/>
            <p:nvPr/>
          </p:nvSpPr>
          <p:spPr>
            <a:xfrm>
              <a:off x="3264120" y="148428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核心症状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“</a:t>
              </a:r>
              <a:r>
                <a:rPr b="0" lang="zh-CN" sz="39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三高”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圆角矩形 11269"/>
            <p:cNvSpPr/>
            <p:nvPr/>
          </p:nvSpPr>
          <p:spPr>
            <a:xfrm>
              <a:off x="2509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1" action="ppaction://hlinksldjump"/>
                </a:rPr>
                <a:t>情感高涨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7" name="肘形连接符 11270"/>
            <p:cNvCxnSpPr>
              <a:stCxn id="136" idx="0"/>
              <a:endCxn id="135" idx="2"/>
            </p:cNvCxnSpPr>
            <p:nvPr/>
          </p:nvCxnSpPr>
          <p:spPr>
            <a:xfrm flipV="1">
              <a:off x="15422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8" name="圆角矩形 11271"/>
            <p:cNvSpPr/>
            <p:nvPr/>
          </p:nvSpPr>
          <p:spPr>
            <a:xfrm>
              <a:off x="326412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2" action="ppaction://hlinksldjump"/>
                </a:rPr>
                <a:t>思维奔逸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9" name="肘形连接符 11272"/>
            <p:cNvCxnSpPr>
              <a:stCxn id="138" idx="0"/>
              <a:endCxn id="135" idx="2"/>
            </p:cNvCxnSpPr>
            <p:nvPr/>
          </p:nvCxnSpPr>
          <p:spPr>
            <a:xfrm flipV="1">
              <a:off x="4540680" y="3434040"/>
              <a:ext cx="1548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40" name="圆角矩形 11273"/>
            <p:cNvSpPr/>
            <p:nvPr/>
          </p:nvSpPr>
          <p:spPr>
            <a:xfrm>
              <a:off x="6277680" y="4409640"/>
              <a:ext cx="2583000" cy="1950120"/>
            </a:xfrm>
            <a:prstGeom prst="roundRect">
              <a:avLst>
                <a:gd name="adj" fmla="val 16667"/>
              </a:avLst>
            </a:prstGeom>
            <a:solidFill>
              <a:srgbClr val="6b8bdb"/>
            </a:solidFill>
            <a:ln w="9360">
              <a:solidFill>
                <a:srgbClr val="6b8bd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900" spc="-1" strike="noStrike" u="sng">
                  <a:solidFill>
                    <a:srgbClr val="ddb523"/>
                  </a:solidFill>
                  <a:uFillTx/>
                  <a:latin typeface="Arial"/>
                  <a:ea typeface="宋体"/>
                  <a:hlinkClick r:id="rId3" action="ppaction://hlinksldjump"/>
                </a:rPr>
                <a:t>意志活动增强</a:t>
              </a:r>
              <a:endParaRPr b="0" lang="en-US" sz="3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41" name="肘形连接符 11274"/>
            <p:cNvCxnSpPr>
              <a:stCxn id="140" idx="0"/>
              <a:endCxn id="135" idx="2"/>
            </p:cNvCxnSpPr>
            <p:nvPr/>
          </p:nvCxnSpPr>
          <p:spPr>
            <a:xfrm flipH="1" flipV="1">
              <a:off x="4555440" y="3434040"/>
              <a:ext cx="3013920" cy="975600"/>
            </a:xfrm>
            <a:prstGeom prst="straightConnector1">
              <a:avLst/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主要症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情感高涨：情感活动明显增强，表现为不同程度的病态喜悦，自我感觉良好，有与环境不相符的过分的愉快 、欢乐，语音高昂，眉飞色舞，喜笑颜开，表情丰富，但不稳定，可因琐事而发怒，但转瞬即逝。表现可理解的 、带有感染性的情绪高涨，易引起周围人的共鸣见于躁狂</a:t>
            </a:r>
            <a:r>
              <a:rPr b="1" lang="en-US" sz="2800" spc="-1" strike="noStrike">
                <a:solidFill>
                  <a:srgbClr val="8ac8de"/>
                </a:solidFill>
                <a:latin typeface="隶书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  <a:p>
            <a:pPr marL="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dell</cp:lastModifiedBy>
  <dcterms:modified xsi:type="dcterms:W3CDTF">2015-12-31T09:24:3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